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90968-DC81-4590-9495-35E7690B9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3EC3B-1B2B-44C1-ADFA-C989BB832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2235D-184B-4D80-8D02-BD1B3BE25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71A7D-A7D5-4979-B41F-A51BC5D63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DC85A-1ADD-4F09-B7DA-B4823DA6D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24683-1534-4DEC-B055-2D395D1BA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DA94B-84B6-4DF8-B512-E80151C6B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E2399-A3BE-4F5D-BF87-3F3DABCB5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A642D-BFD4-4451-A104-611852930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D600D-FCAA-44D6-9D0B-7D7A8D2BC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A6BC2-4640-463E-A59D-E54E828E3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A1633-1E40-447A-8F0D-5F7BDD4D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596E7-B206-4D1C-BA5D-ACEFB89A5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F0DDB-3DD2-429B-9FA0-14FDFF238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9CA48-A1AD-4CA6-8884-84FC7FE7B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BB617-94CE-45A0-B4BA-19A5F2518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B0FFF-762D-4C16-B882-B0BCA69CB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56BF-7819-4EF5-A09B-974579B03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83BFF-9B20-490B-B151-290437206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73315-7133-4313-9A67-7D5C19284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40942-D8C6-43C7-A8EA-2B57E35C4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F16AE-6158-418F-9CC6-33E9E7820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0ECC-0AD6-4A87-BF54-107F5812B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35A6-4C45-4734-AEC6-D81B15D9F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CBFB-8640-45C1-A3B8-45F9DDCC304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DDB6-CC2C-42CD-B964-9E7D45B07B9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Unit Portfolio Presentation</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Kate Yaun </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Kathy Kellner</a:t>
            </a:r>
            <a:endParaRPr b="0" lang="en-US" sz="24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Great Bean Race is on! Compete with classrooms from other regions to see which collaborative team can grow the tallest bean plant. Controlling for certain variables (including growth time and bean seeds), seven or eight teams in each classroom design and conduct a controlled bean-plant experiment to investigate ideal conditions for growth. Students synthesize bean-plant information into a newsletter that describes the project, their group bean plan, and facts about beans.</a:t>
            </a:r>
            <a:endParaRPr b="0" lang="en-US" sz="28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Essential Question </a:t>
            </a:r>
            <a:br>
              <a:rPr sz="2400"/>
            </a:br>
            <a:r>
              <a:rPr b="0" lang="en-US" sz="2400" spc="-1" strike="noStrike">
                <a:solidFill>
                  <a:srgbClr val="eaeaea"/>
                </a:solidFill>
                <a:latin typeface="Verdana"/>
              </a:rPr>
              <a:t>Are all living things related</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Unit Questions</a:t>
            </a:r>
            <a:br>
              <a:rPr sz="2400"/>
            </a:br>
            <a:r>
              <a:rPr b="0" lang="en-US" sz="1800" spc="-1" strike="noStrike">
                <a:solidFill>
                  <a:srgbClr val="eaeaea"/>
                </a:solidFill>
                <a:latin typeface="Verdana"/>
              </a:rPr>
              <a:t>How do living things grow in different way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ow can I manipulate technology to document a life cycle?</a:t>
            </a:r>
            <a:endParaRPr b="0" lang="en-US" sz="1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ow do they compare to one another?</a:t>
            </a:r>
            <a:r>
              <a:rPr b="1" lang="en-US" sz="2400" spc="-1" strike="noStrike">
                <a:solidFill>
                  <a:srgbClr val="eaeaea"/>
                </a:solidFill>
                <a:latin typeface="Verdana"/>
              </a:rPr>
              <a:t>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Content Questions</a:t>
            </a:r>
            <a:endParaRPr b="0" lang="en-US" sz="24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a life cycle of a butterfly?</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life cycle of a frog?</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life cycle of a dragonfly?</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do sea turtles grow and chang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can be used to measure the life cycl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uch time does a life cycle take?</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an Race Project</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4" name=""/>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municating with others in a newsletter.</a:t>
            </a:r>
            <a:endParaRPr b="0" lang="en-US" sz="2400" spc="-1" strike="noStrike">
              <a:solidFill>
                <a:srgbClr val="eaeaea"/>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26" name=""/>
          <p:cNvSpPr/>
          <p:nvPr/>
        </p:nvSpPr>
        <p:spPr>
          <a:xfrm>
            <a:off x="1371600" y="1295280"/>
            <a:ext cx="7162920" cy="585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growing plant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setting up experim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ask students to find relationships and draw conclusions about growing pla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misconceptions about  how to set up experiments, I can provide scaffolds. If students have different levels of understanding about the importance of plants, I can provide various resources. We will revisit this assessment throughout the unit for students to add their knowled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help on my assessment. I think I need to elicit more higher-order thinking, but I’m not sure how.</a:t>
            </a:r>
            <a:endParaRPr b="0" lang="en-US" sz="1800" spc="-1" strike="noStrike">
              <a:solidFill>
                <a:srgbClr val="eaeaea"/>
              </a:solidFill>
              <a:latin typeface="Arial"/>
            </a:endParaRPr>
          </a:p>
        </p:txBody>
      </p:sp>
      <p:graphicFrame>
        <p:nvGraphicFramePr>
          <p:cNvPr id="127" name=""/>
          <p:cNvGraphicFramePr/>
          <p:nvPr/>
        </p:nvGraphicFramePr>
        <p:xfrm>
          <a:off x="7696080" y="762120"/>
          <a:ext cx="914400" cy="714240"/>
        </p:xfrm>
        <a:graphic>
          <a:graphicData uri="http://schemas.openxmlformats.org/presentationml/2006/ole">
            <p:oleObj progId="Word.Document.12" r:id="rId1" spid="">
              <p:embed/>
              <p:pic>
                <p:nvPicPr>
                  <p:cNvPr id="128" name="" descr=""/>
                  <p:cNvPicPr/>
                  <p:nvPr/>
                </p:nvPicPr>
                <p:blipFill>
                  <a:blip r:embed="rId2"/>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53960" y="50760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2" name="PlaceHolder 2"/>
          <p:cNvSpPr>
            <a:spLocks noGrp="1"/>
          </p:cNvSpPr>
          <p:nvPr>
            <p:ph/>
          </p:nvPr>
        </p:nvSpPr>
        <p:spPr>
          <a:xfrm>
            <a:off x="1371600" y="1905120"/>
            <a:ext cx="7238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ork together to create a presentation appropriate for a selected audience.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ather, analyze, organize, reflect, and process information about a specific life cycle.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pare data about selected life cycles with other students, through graphic organizers, charts or other visual aids.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ake connections between themselves, and the lifecycles of other organisms in our world.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laces I could find a classroom in a different climate for my students to work wi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kellner</cp:lastModifiedBy>
  <dcterms:modified xsi:type="dcterms:W3CDTF">2010-06-30T12:37:50Z</dcterms:modified>
  <cp:revision>17</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